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453-63E3-43B9-B079-72F3138E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37D-A4CF-4126-BC5C-5E898E6B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9FB-6BED-4CD4-A5D8-7E0EB74B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37C-3150-41B7-BE73-1FD1F959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2F6A-F62A-499D-896A-7EE4AC7C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337A-0CE3-4777-91B8-FB3A649B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6CE5-2947-427B-81AE-A31CDBC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205E-2E28-449B-A935-4369CBFF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199A-29C0-4BFA-8F22-D14DC924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FDB4-CA91-4767-8793-3F3CC16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D84E-BFCC-4CD3-801B-A0E270B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15B-12A0-4A46-8382-C5EF93B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7931-4103-4A24-B5A8-88E720C4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C155-B57A-4378-9A63-43EC4491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51EE-16DE-4DD8-BB1B-E7DD7C97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157-782E-4DBA-A2CD-B109D642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8EE2-ACDE-49F1-9598-4E6801F5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53C-BEB9-4B77-ABD0-B6F20A0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ADF-FF9D-4640-85C4-8E47A406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4AE-E391-4AE4-80A5-63DEFA78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832-93EA-4CD4-BF0B-BD1D224A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642-2A2B-4F29-BA24-F94FC8E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216-3FC5-4C43-997A-3D28DC5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0B0-9A04-4A8B-BBEE-55A6298F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6F4A-7738-43C6-8CF3-849B8FCE19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916-4FFA-4F75-A599-31D04F1D31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transltion/language_aid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rreo.uah.es/exchweb/bin/redir.asp?URL=http://www.iol.org.uk" TargetMode="External"/><Relationship Id="rId2" Type="http://schemas.openxmlformats.org/officeDocument/2006/relationships/hyperlink" Target="https://correo.uah.es/exchweb/bin/redir.asp?URL=http://www.iol.org.uk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cett.org/" TargetMode="External"/><Relationship Id="rId2" Type="http://schemas.openxmlformats.org/officeDocument/2006/relationships/hyperlink" Target="http://www.acett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uah.es/traduccion" TargetMode="External"/><Relationship Id="rId2" Type="http://schemas.openxmlformats.org/officeDocument/2006/relationships/hyperlink" Target="http://www2.uah.es/traduccion" TargetMode="External"/><Relationship Id="rId3" Type="http://schemas.openxmlformats.org/officeDocument/2006/relationships/hyperlink" Target="http://www2.uah.es/traduccion" TargetMode="External"/><Relationship Id="rId4" Type="http://schemas.openxmlformats.org/officeDocument/2006/relationships/hyperlink" Target="http://www2.uah.es/traduccion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European comission. Translation and 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drafting resourc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nks hacia páginas oficiales muy út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ccion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Guías de gramá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rre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gramas para traducir en alfabetos diferentes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http://ec.europa.eu/transltion/language_aids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Interactive Terminology for Euro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ccionario de térmi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chas áreas temáticas (vida política, relaciones internacionales, comunidades europea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raduce a diversos idi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ate.europa.e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IOL </a:t>
            </a:r>
            <a:r>
              <a:rPr b="0" lang="es-ES" sz="1400" spc="-1" strike="noStrike">
                <a:solidFill>
                  <a:srgbClr val="006666"/>
                </a:solidFill>
                <a:latin typeface="Arial"/>
              </a:rPr>
              <a:t>(Chartered Institute of Linguistics)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cha información sobre la situación profesional de traductores e intérpretes y sus oportunidades de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blicar anuncios de trabajo y encontrar profesionales de la tra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ámenes y t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nks muy interesa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http://</a:t>
            </a:r>
            <a:r>
              <a:rPr b="0" lang="en-GB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2"/>
              </a:rPr>
              <a:t>www.iol.org.uk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T 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(Sección Autónoma de Traductores de Libros de la Asociación 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6666"/>
                </a:solidFill>
                <a:latin typeface="Arial"/>
              </a:rPr>
              <a:t>Colegial de Escritores)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forma de la situación laboral del traductor de libros y sus proble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rsillos, talleres, tertulias, becas, premios, encuentros y conferenc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sta de asociaciones profesionales de traductores de lib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ibliotecas y textos electrón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ros sobre lengua, literatura y tra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pa de universidades con estudios de traducción en España y Portug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cción de consultas frecue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ttp://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www.acett.org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2"/>
              </a:rPr>
              <a:t>/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A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formación sobre el Máster en Comunicación Intercultural, Interpretación y Comunicación en Servicios Públicos, así como un doctorado en Lenguas Modernas, Literatura y Tra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y útil para alumnos que quieran ampliar sus estud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s sobre asociaciones de traductores de todo el mun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1"/>
              </a:rPr>
              <a:t>http://www2.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2"/>
              </a:rPr>
              <a:t>uah.es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3"/>
              </a:rPr>
              <a:t>/</a:t>
            </a:r>
            <a:r>
              <a:rPr b="0" lang="es-ES" sz="2900" spc="-1" strike="noStrike" u="sng">
                <a:solidFill>
                  <a:srgbClr val="006666"/>
                </a:solidFill>
                <a:uFillTx/>
                <a:latin typeface="Verdana"/>
                <a:ea typeface="ＭＳ Ｐゴシック"/>
                <a:hlinkClick r:id="rId4"/>
              </a:rPr>
              <a:t>traduccion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5:15:39Z</dcterms:created>
  <dc:creator>usuario</dc:creator>
  <dc:description/>
  <dc:language>en-US</dc:language>
  <cp:lastModifiedBy>usuario</cp:lastModifiedBy>
  <dcterms:modified xsi:type="dcterms:W3CDTF">2011-09-28T08:52:12Z</dcterms:modified>
  <cp:revision>8</cp:revision>
  <dc:subject/>
  <dc:title>    AIETI (Asociación Ibérica de Estudios de Traducción e Interpretación)</dc:title>
</cp:coreProperties>
</file>